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DF012912-2810-4AAB-978C-9808EC1646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76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9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876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9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30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11       T.Tammet     IT sissejuhatus loeng 1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9B658659-95F1-4E1D-B099-7C2615C62E9E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t-E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55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0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07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1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19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25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3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39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143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(and Isn’t) a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mput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device which takes data in one form, uses it, and produces a different form of information which is related to (but not the same as) the original da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omputers versus Mechanical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eneral-purpose versus Special-purpose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al versus Analog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evaade kursuse eesmärkid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mumisajad, lek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ad ja eesmär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60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ctronic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from transistors tha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chanic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o no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of a combination of gears, levers and spring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ener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re not manufactured to do any one th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able to do any tas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peci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nufactured to do a predetermined task or set of tas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discrete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discrete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g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continuous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continuous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4800600" cy="682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46748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General-Purpose Digital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General-Purpose Digital Compu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ccepts information of many kind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s it in a way that is controlled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sents results in a way usable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pist ja traadist mitteprogr.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38440" y="1878120"/>
            <a:ext cx="5769000" cy="315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Kursus EI ÕPETA elementaarset arvutikasutamist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65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7920000" cy="576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IT on siiamaani arenenud ja mida võiks lähiaastatel ooda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70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497680" y="2556000"/>
            <a:ext cx="1553760" cy="3386520"/>
            <a:chOff x="2497680" y="2556000"/>
            <a:chExt cx="1553760" cy="3386520"/>
          </a:xfrm>
        </p:grpSpPr>
        <p:sp>
          <p:nvSpPr>
            <p:cNvPr id="203" name=""/>
            <p:cNvSpPr/>
            <p:nvPr/>
          </p:nvSpPr>
          <p:spPr>
            <a:xfrm>
              <a:off x="2498760" y="2556000"/>
              <a:ext cx="1552680" cy="3375000"/>
            </a:xfrm>
            <a:custGeom>
              <a:avLst/>
              <a:gdLst>
                <a:gd name="textAreaLeft" fmla="*/ 360 w 1552680"/>
                <a:gd name="textAreaRight" fmla="*/ 1552320 w 1552680"/>
                <a:gd name="textAreaTop" fmla="*/ 360 h 3375000"/>
                <a:gd name="textAreaBottom" fmla="*/ 3374640 h 3375000"/>
              </a:gdLst>
              <a:ahLst/>
              <a:rect l="textAreaLeft" t="textAreaTop" r="textAreaRight" b="textAreaBottom"/>
              <a:pathLst>
                <a:path w="21600" h="46945">
                  <a:moveTo>
                    <a:pt x="22" y="0"/>
                  </a:moveTo>
                  <a:arcTo wR="22" hR="22" stAng="16200000" swAng="-5400000"/>
                  <a:lnTo>
                    <a:pt x="0" y="46923"/>
                  </a:lnTo>
                  <a:arcTo wR="22" hR="22" stAng="10800000" swAng="-5400000"/>
                  <a:lnTo>
                    <a:pt x="21578" y="4694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497680" y="2556000"/>
              <a:ext cx="1553760" cy="3386520"/>
              <a:chOff x="2497680" y="2556000"/>
              <a:chExt cx="1553760" cy="3386520"/>
            </a:xfrm>
          </p:grpSpPr>
          <p:sp>
            <p:nvSpPr>
              <p:cNvPr id="205" name=""/>
              <p:cNvSpPr/>
              <p:nvPr/>
            </p:nvSpPr>
            <p:spPr>
              <a:xfrm>
                <a:off x="2498760" y="2556000"/>
                <a:ext cx="1552680" cy="3375000"/>
              </a:xfrm>
              <a:custGeom>
                <a:avLst/>
                <a:gdLst>
                  <a:gd name="textAreaLeft" fmla="*/ 360 w 1552680"/>
                  <a:gd name="textAreaRight" fmla="*/ 1552320 w 1552680"/>
                  <a:gd name="textAreaTop" fmla="*/ 360 h 3375000"/>
                  <a:gd name="textAreaBottom" fmla="*/ 3374640 h 3375000"/>
                </a:gdLst>
                <a:ahLst/>
                <a:rect l="textAreaLeft" t="textAreaTop" r="textAreaRight" b="textAreaBottom"/>
                <a:pathLst>
                  <a:path w="21600" h="46945">
                    <a:moveTo>
                      <a:pt x="22" y="0"/>
                    </a:moveTo>
                    <a:arcTo wR="22" hR="22" stAng="16200000" swAng="-5400000"/>
                    <a:lnTo>
                      <a:pt x="0" y="46923"/>
                    </a:lnTo>
                    <a:arcTo wR="22" hR="22" stAng="10800000" swAng="-5400000"/>
                    <a:lnTo>
                      <a:pt x="21578" y="4694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9768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4722120" y="3809880"/>
            <a:ext cx="2208240" cy="460440"/>
            <a:chOff x="4722120" y="3809880"/>
            <a:chExt cx="2208240" cy="460440"/>
          </a:xfrm>
        </p:grpSpPr>
        <p:sp>
          <p:nvSpPr>
            <p:cNvPr id="208" name=""/>
            <p:cNvSpPr/>
            <p:nvPr/>
          </p:nvSpPr>
          <p:spPr>
            <a:xfrm>
              <a:off x="4724280" y="3809880"/>
              <a:ext cx="2202120" cy="4543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722120" y="3809880"/>
              <a:ext cx="2208240" cy="460440"/>
              <a:chOff x="4722120" y="3809880"/>
              <a:chExt cx="2208240" cy="460440"/>
            </a:xfrm>
          </p:grpSpPr>
          <p:sp>
            <p:nvSpPr>
              <p:cNvPr id="210" name=""/>
              <p:cNvSpPr/>
              <p:nvPr/>
            </p:nvSpPr>
            <p:spPr>
              <a:xfrm>
                <a:off x="4724280" y="3809880"/>
                <a:ext cx="2202120" cy="4543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2212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90720" y="3352680"/>
            <a:ext cx="7680240" cy="1191960"/>
            <a:chOff x="990720" y="3352680"/>
            <a:chExt cx="7680240" cy="1191960"/>
          </a:xfrm>
        </p:grpSpPr>
        <p:sp>
          <p:nvSpPr>
            <p:cNvPr id="216" name=""/>
            <p:cNvSpPr/>
            <p:nvPr/>
          </p:nvSpPr>
          <p:spPr>
            <a:xfrm>
              <a:off x="990720" y="3352680"/>
              <a:ext cx="7680240" cy="118440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990720" y="3352680"/>
              <a:ext cx="7680240" cy="1191960"/>
              <a:chOff x="990720" y="3352680"/>
              <a:chExt cx="7680240" cy="1191960"/>
            </a:xfrm>
          </p:grpSpPr>
          <p:sp>
            <p:nvSpPr>
              <p:cNvPr id="218" name=""/>
              <p:cNvSpPr/>
              <p:nvPr/>
            </p:nvSpPr>
            <p:spPr>
              <a:xfrm>
                <a:off x="990720" y="3352680"/>
                <a:ext cx="7680240" cy="118440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2666160" y="2514600"/>
            <a:ext cx="1910520" cy="460440"/>
            <a:chOff x="2666160" y="2514600"/>
            <a:chExt cx="1910520" cy="460440"/>
          </a:xfrm>
        </p:grpSpPr>
        <p:sp>
          <p:nvSpPr>
            <p:cNvPr id="221" name=""/>
            <p:cNvSpPr/>
            <p:nvPr/>
          </p:nvSpPr>
          <p:spPr>
            <a:xfrm>
              <a:off x="2666880" y="2514600"/>
              <a:ext cx="19098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666160" y="2514600"/>
              <a:ext cx="1910520" cy="460440"/>
              <a:chOff x="2666160" y="2514600"/>
              <a:chExt cx="1910520" cy="460440"/>
            </a:xfrm>
          </p:grpSpPr>
          <p:sp>
            <p:nvSpPr>
              <p:cNvPr id="223" name=""/>
              <p:cNvSpPr/>
              <p:nvPr/>
            </p:nvSpPr>
            <p:spPr>
              <a:xfrm>
                <a:off x="2666880" y="2514600"/>
                <a:ext cx="1909800" cy="4539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6616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990720" y="3352680"/>
            <a:ext cx="7223040" cy="2390040"/>
            <a:chOff x="990720" y="3352680"/>
            <a:chExt cx="7223040" cy="2390040"/>
          </a:xfrm>
        </p:grpSpPr>
        <p:sp>
          <p:nvSpPr>
            <p:cNvPr id="232" name=""/>
            <p:cNvSpPr/>
            <p:nvPr/>
          </p:nvSpPr>
          <p:spPr>
            <a:xfrm>
              <a:off x="990720" y="3352680"/>
              <a:ext cx="7223040" cy="22798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990720" y="3352680"/>
              <a:ext cx="7223040" cy="2390040"/>
              <a:chOff x="990720" y="3352680"/>
              <a:chExt cx="7223040" cy="2390040"/>
            </a:xfrm>
          </p:grpSpPr>
          <p:sp>
            <p:nvSpPr>
              <p:cNvPr id="234" name=""/>
              <p:cNvSpPr/>
              <p:nvPr/>
            </p:nvSpPr>
            <p:spPr>
              <a:xfrm>
                <a:off x="990720" y="3352680"/>
                <a:ext cx="7223040" cy="22798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99108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2666160" y="2514600"/>
            <a:ext cx="1834560" cy="460440"/>
            <a:chOff x="2666160" y="2514600"/>
            <a:chExt cx="1834560" cy="460440"/>
          </a:xfrm>
        </p:grpSpPr>
        <p:sp>
          <p:nvSpPr>
            <p:cNvPr id="237" name=""/>
            <p:cNvSpPr/>
            <p:nvPr/>
          </p:nvSpPr>
          <p:spPr>
            <a:xfrm>
              <a:off x="2666880" y="2514600"/>
              <a:ext cx="183384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666160" y="2514600"/>
              <a:ext cx="1834560" cy="460440"/>
              <a:chOff x="2666160" y="2514600"/>
              <a:chExt cx="1834560" cy="460440"/>
            </a:xfrm>
          </p:grpSpPr>
          <p:sp>
            <p:nvSpPr>
              <p:cNvPr id="239" name=""/>
              <p:cNvSpPr/>
              <p:nvPr/>
            </p:nvSpPr>
            <p:spPr>
              <a:xfrm>
                <a:off x="2666880" y="2514600"/>
                <a:ext cx="1833840" cy="4539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6616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7360" y="2438280"/>
            <a:ext cx="2130480" cy="1009080"/>
            <a:chOff x="837360" y="2438280"/>
            <a:chExt cx="2130480" cy="1009080"/>
          </a:xfrm>
        </p:grpSpPr>
        <p:sp>
          <p:nvSpPr>
            <p:cNvPr id="247" name=""/>
            <p:cNvSpPr/>
            <p:nvPr/>
          </p:nvSpPr>
          <p:spPr>
            <a:xfrm>
              <a:off x="838080" y="2438280"/>
              <a:ext cx="2124360" cy="100332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837360" y="2438280"/>
              <a:ext cx="2130480" cy="1009080"/>
              <a:chOff x="837360" y="2438280"/>
              <a:chExt cx="2130480" cy="1009080"/>
            </a:xfrm>
          </p:grpSpPr>
          <p:sp>
            <p:nvSpPr>
              <p:cNvPr id="249" name=""/>
              <p:cNvSpPr/>
              <p:nvPr/>
            </p:nvSpPr>
            <p:spPr>
              <a:xfrm>
                <a:off x="838080" y="2438280"/>
                <a:ext cx="2124360" cy="100332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3736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761040" y="3511440"/>
            <a:ext cx="2226600" cy="995400"/>
            <a:chOff x="761040" y="3511440"/>
            <a:chExt cx="2226600" cy="995400"/>
          </a:xfrm>
        </p:grpSpPr>
        <p:sp>
          <p:nvSpPr>
            <p:cNvPr id="252" name=""/>
            <p:cNvSpPr/>
            <p:nvPr/>
          </p:nvSpPr>
          <p:spPr>
            <a:xfrm>
              <a:off x="762120" y="3511440"/>
              <a:ext cx="2225520" cy="9954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61040" y="3511440"/>
              <a:ext cx="2226600" cy="995400"/>
              <a:chOff x="761040" y="3511440"/>
              <a:chExt cx="2226600" cy="995400"/>
            </a:xfrm>
          </p:grpSpPr>
          <p:sp>
            <p:nvSpPr>
              <p:cNvPr id="254" name=""/>
              <p:cNvSpPr/>
              <p:nvPr/>
            </p:nvSpPr>
            <p:spPr>
              <a:xfrm>
                <a:off x="762120" y="3511440"/>
                <a:ext cx="2225520" cy="9954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104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733920" y="2438280"/>
            <a:ext cx="2224800" cy="734760"/>
            <a:chOff x="3733920" y="2438280"/>
            <a:chExt cx="2224800" cy="734760"/>
          </a:xfrm>
        </p:grpSpPr>
        <p:sp>
          <p:nvSpPr>
            <p:cNvPr id="264" name=""/>
            <p:cNvSpPr/>
            <p:nvPr/>
          </p:nvSpPr>
          <p:spPr>
            <a:xfrm>
              <a:off x="3733920" y="2438280"/>
              <a:ext cx="2212920" cy="72864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733920" y="2438280"/>
              <a:ext cx="2224800" cy="734760"/>
              <a:chOff x="3733920" y="2438280"/>
              <a:chExt cx="2224800" cy="734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733920" y="2438280"/>
                <a:ext cx="2211120" cy="72864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3536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3656880" y="3359160"/>
            <a:ext cx="2226240" cy="995400"/>
            <a:chOff x="3656880" y="3359160"/>
            <a:chExt cx="2226240" cy="995400"/>
          </a:xfrm>
        </p:grpSpPr>
        <p:sp>
          <p:nvSpPr>
            <p:cNvPr id="269" name=""/>
            <p:cNvSpPr/>
            <p:nvPr/>
          </p:nvSpPr>
          <p:spPr>
            <a:xfrm>
              <a:off x="3657600" y="3359160"/>
              <a:ext cx="2225520" cy="9954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656880" y="3359160"/>
              <a:ext cx="2226240" cy="995400"/>
              <a:chOff x="3656880" y="3359160"/>
              <a:chExt cx="2226240" cy="995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657600" y="3359160"/>
                <a:ext cx="2225520" cy="9954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91" name=""/>
            <p:cNvSpPr/>
            <p:nvPr/>
          </p:nvSpPr>
          <p:spPr>
            <a:xfrm>
              <a:off x="6477120" y="2438280"/>
              <a:ext cx="1946160" cy="100332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93" name=""/>
              <p:cNvSpPr/>
              <p:nvPr/>
            </p:nvSpPr>
            <p:spPr>
              <a:xfrm>
                <a:off x="6477120" y="2438280"/>
                <a:ext cx="1946160" cy="100332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5568480" y="4192920"/>
            <a:ext cx="788760" cy="774000"/>
            <a:chOff x="5568480" y="4192920"/>
            <a:chExt cx="788760" cy="774000"/>
          </a:xfrm>
        </p:grpSpPr>
        <p:sp>
          <p:nvSpPr>
            <p:cNvPr id="296" name=""/>
            <p:cNvSpPr/>
            <p:nvPr/>
          </p:nvSpPr>
          <p:spPr>
            <a:xfrm rot="1980000">
              <a:off x="5721120" y="4412880"/>
              <a:ext cx="485640" cy="33444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568480" y="4192920"/>
              <a:ext cx="788760" cy="774000"/>
              <a:chOff x="5568480" y="4192920"/>
              <a:chExt cx="788760" cy="774000"/>
            </a:xfrm>
          </p:grpSpPr>
          <p:sp>
            <p:nvSpPr>
              <p:cNvPr id="298" name=""/>
              <p:cNvSpPr/>
              <p:nvPr/>
            </p:nvSpPr>
            <p:spPr>
              <a:xfrm rot="1980000">
                <a:off x="5667840" y="4309920"/>
                <a:ext cx="589680" cy="54000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980000">
                <a:off x="5772600" y="43318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5095800" y="4184280"/>
            <a:ext cx="813240" cy="810000"/>
            <a:chOff x="5095800" y="4184280"/>
            <a:chExt cx="813240" cy="810000"/>
          </a:xfrm>
        </p:grpSpPr>
        <p:sp>
          <p:nvSpPr>
            <p:cNvPr id="301" name=""/>
            <p:cNvSpPr/>
            <p:nvPr/>
          </p:nvSpPr>
          <p:spPr>
            <a:xfrm rot="2400000">
              <a:off x="5258880" y="4419720"/>
              <a:ext cx="487440" cy="3348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95800" y="4184280"/>
              <a:ext cx="813240" cy="810000"/>
              <a:chOff x="5095800" y="4184280"/>
              <a:chExt cx="813240" cy="810000"/>
            </a:xfrm>
          </p:grpSpPr>
          <p:sp>
            <p:nvSpPr>
              <p:cNvPr id="303" name=""/>
              <p:cNvSpPr/>
              <p:nvPr/>
            </p:nvSpPr>
            <p:spPr>
              <a:xfrm rot="2400000">
                <a:off x="5208120" y="4307040"/>
                <a:ext cx="588240" cy="56376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400000">
                <a:off x="5338080" y="432576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4642920" y="4178520"/>
            <a:ext cx="810360" cy="805320"/>
            <a:chOff x="4642920" y="4178520"/>
            <a:chExt cx="810360" cy="805320"/>
          </a:xfrm>
        </p:grpSpPr>
        <p:sp>
          <p:nvSpPr>
            <p:cNvPr id="306" name=""/>
            <p:cNvSpPr/>
            <p:nvPr/>
          </p:nvSpPr>
          <p:spPr>
            <a:xfrm rot="2280000">
              <a:off x="4806720" y="4413240"/>
              <a:ext cx="485640" cy="3348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4642920" y="4178520"/>
              <a:ext cx="810360" cy="805320"/>
              <a:chOff x="4642920" y="4178520"/>
              <a:chExt cx="810360" cy="805320"/>
            </a:xfrm>
          </p:grpSpPr>
          <p:sp>
            <p:nvSpPr>
              <p:cNvPr id="308" name=""/>
              <p:cNvSpPr/>
              <p:nvPr/>
            </p:nvSpPr>
            <p:spPr>
              <a:xfrm rot="2280000">
                <a:off x="4752720" y="4300560"/>
                <a:ext cx="590040" cy="56088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2280000">
                <a:off x="4873680" y="432684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4263840" y="4184640"/>
            <a:ext cx="799200" cy="789840"/>
            <a:chOff x="4263840" y="4184640"/>
            <a:chExt cx="799200" cy="789840"/>
          </a:xfrm>
        </p:grpSpPr>
        <p:sp>
          <p:nvSpPr>
            <p:cNvPr id="311" name=""/>
            <p:cNvSpPr/>
            <p:nvPr/>
          </p:nvSpPr>
          <p:spPr>
            <a:xfrm rot="2100000">
              <a:off x="4421160" y="4411800"/>
              <a:ext cx="485640" cy="3348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263840" y="4184640"/>
              <a:ext cx="799200" cy="789840"/>
              <a:chOff x="4263840" y="4184640"/>
              <a:chExt cx="799200" cy="789840"/>
            </a:xfrm>
          </p:grpSpPr>
          <p:sp>
            <p:nvSpPr>
              <p:cNvPr id="313" name=""/>
              <p:cNvSpPr/>
              <p:nvPr/>
            </p:nvSpPr>
            <p:spPr>
              <a:xfrm rot="2100000">
                <a:off x="4368600" y="4303440"/>
                <a:ext cx="589320" cy="55152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100000">
                <a:off x="4485600" y="4325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3728160" y="4129920"/>
            <a:ext cx="915480" cy="910800"/>
            <a:chOff x="3728160" y="4129920"/>
            <a:chExt cx="915480" cy="910800"/>
          </a:xfrm>
        </p:grpSpPr>
        <p:sp>
          <p:nvSpPr>
            <p:cNvPr id="316" name=""/>
            <p:cNvSpPr/>
            <p:nvPr/>
          </p:nvSpPr>
          <p:spPr>
            <a:xfrm rot="2400000">
              <a:off x="3894120" y="4419720"/>
              <a:ext cx="58752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3728160" y="4129920"/>
              <a:ext cx="915480" cy="910800"/>
              <a:chOff x="3728160" y="4129920"/>
              <a:chExt cx="915480" cy="910800"/>
            </a:xfrm>
          </p:grpSpPr>
          <p:sp>
            <p:nvSpPr>
              <p:cNvPr id="318" name=""/>
              <p:cNvSpPr/>
              <p:nvPr/>
            </p:nvSpPr>
            <p:spPr>
              <a:xfrm rot="2400000">
                <a:off x="3852720" y="4270320"/>
                <a:ext cx="666360" cy="63000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400000">
                <a:off x="3985560" y="430524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6628320" y="4724280"/>
            <a:ext cx="410760" cy="1740600"/>
            <a:chOff x="6628320" y="4724280"/>
            <a:chExt cx="410760" cy="1740600"/>
          </a:xfrm>
        </p:grpSpPr>
        <p:sp>
          <p:nvSpPr>
            <p:cNvPr id="321" name=""/>
            <p:cNvSpPr/>
            <p:nvPr/>
          </p:nvSpPr>
          <p:spPr>
            <a:xfrm>
              <a:off x="6629400" y="4724280"/>
              <a:ext cx="409680" cy="1737000"/>
            </a:xfrm>
            <a:custGeom>
              <a:avLst/>
              <a:gdLst>
                <a:gd name="textAreaLeft" fmla="*/ 360 w 409680"/>
                <a:gd name="textAreaRight" fmla="*/ 409320 w 409680"/>
                <a:gd name="textAreaTop" fmla="*/ 360 h 1737000"/>
                <a:gd name="textAreaBottom" fmla="*/ 1736640 h 1737000"/>
              </a:gdLst>
              <a:ahLst/>
              <a:rect l="textAreaLeft" t="textAreaTop" r="textAreaRight" b="textAreaBottom"/>
              <a:pathLst>
                <a:path w="21600" h="91520">
                  <a:moveTo>
                    <a:pt x="83" y="0"/>
                  </a:moveTo>
                  <a:arcTo wR="83" hR="83" stAng="16200000" swAng="-5400000"/>
                  <a:lnTo>
                    <a:pt x="0" y="91437"/>
                  </a:lnTo>
                  <a:arcTo wR="83" hR="83" stAng="10800000" swAng="-5400000"/>
                  <a:lnTo>
                    <a:pt x="21517" y="91520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628320" y="4724280"/>
              <a:ext cx="410760" cy="1740600"/>
              <a:chOff x="6628320" y="4724280"/>
              <a:chExt cx="410760" cy="1740600"/>
            </a:xfrm>
          </p:grpSpPr>
          <p:sp>
            <p:nvSpPr>
              <p:cNvPr id="323" name=""/>
              <p:cNvSpPr/>
              <p:nvPr/>
            </p:nvSpPr>
            <p:spPr>
              <a:xfrm>
                <a:off x="6629400" y="4724280"/>
                <a:ext cx="409680" cy="1737000"/>
              </a:xfrm>
              <a:custGeom>
                <a:avLst/>
                <a:gdLst>
                  <a:gd name="textAreaLeft" fmla="*/ 360 w 409680"/>
                  <a:gd name="textAreaRight" fmla="*/ 409320 w 409680"/>
                  <a:gd name="textAreaTop" fmla="*/ 360 h 1737000"/>
                  <a:gd name="textAreaBottom" fmla="*/ 1736640 h 1737000"/>
                </a:gdLst>
                <a:ahLst/>
                <a:rect l="textAreaLeft" t="textAreaTop" r="textAreaRight" b="textAreaBottom"/>
                <a:pathLst>
                  <a:path w="21600" h="91520">
                    <a:moveTo>
                      <a:pt x="83" y="0"/>
                    </a:moveTo>
                    <a:arcTo wR="83" hR="83" stAng="16200000" swAng="-5400000"/>
                    <a:lnTo>
                      <a:pt x="0" y="91437"/>
                    </a:lnTo>
                    <a:arcTo wR="83" hR="83" stAng="10800000" swAng="-5400000"/>
                    <a:lnTo>
                      <a:pt x="21517" y="91520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2832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457760" y="556272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772400" y="3419280"/>
            <a:ext cx="1440" cy="215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990720" y="5532840"/>
            <a:ext cx="3500280" cy="510120"/>
            <a:chOff x="990720" y="5532840"/>
            <a:chExt cx="3500280" cy="510120"/>
          </a:xfrm>
        </p:grpSpPr>
        <p:sp>
          <p:nvSpPr>
            <p:cNvPr id="329" name=""/>
            <p:cNvSpPr/>
            <p:nvPr/>
          </p:nvSpPr>
          <p:spPr>
            <a:xfrm>
              <a:off x="990720" y="5611680"/>
              <a:ext cx="3500280" cy="35568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990720" y="5532840"/>
              <a:ext cx="3498840" cy="510120"/>
              <a:chOff x="990720" y="5532840"/>
              <a:chExt cx="3498840" cy="510120"/>
            </a:xfrm>
          </p:grpSpPr>
          <p:sp>
            <p:nvSpPr>
              <p:cNvPr id="331" name=""/>
              <p:cNvSpPr/>
              <p:nvPr/>
            </p:nvSpPr>
            <p:spPr>
              <a:xfrm>
                <a:off x="990720" y="5610240"/>
                <a:ext cx="3498840" cy="3556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90720" y="5532840"/>
                <a:ext cx="3498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5713920" y="2133720"/>
            <a:ext cx="2845440" cy="4209480"/>
            <a:chOff x="5713920" y="2133720"/>
            <a:chExt cx="2845440" cy="4209480"/>
          </a:xfrm>
        </p:grpSpPr>
        <p:sp>
          <p:nvSpPr>
            <p:cNvPr id="345" name=""/>
            <p:cNvSpPr/>
            <p:nvPr/>
          </p:nvSpPr>
          <p:spPr>
            <a:xfrm>
              <a:off x="5715000" y="2133720"/>
              <a:ext cx="2809800" cy="4184640"/>
            </a:xfrm>
            <a:custGeom>
              <a:avLst/>
              <a:gdLst>
                <a:gd name="textAreaLeft" fmla="*/ 360 w 2809800"/>
                <a:gd name="textAreaRight" fmla="*/ 2809440 w 2809800"/>
                <a:gd name="textAreaTop" fmla="*/ 360 h 4184640"/>
                <a:gd name="textAreaBottom" fmla="*/ 4184280 h 4184640"/>
              </a:gdLst>
              <a:ahLst/>
              <a:rect l="textAreaLeft" t="textAreaTop" r="textAreaRight" b="textAreaBottom"/>
              <a:pathLst>
                <a:path w="21600" h="32168">
                  <a:moveTo>
                    <a:pt x="12" y="0"/>
                  </a:moveTo>
                  <a:arcTo wR="12" hR="12" stAng="16200000" swAng="-5400000"/>
                  <a:lnTo>
                    <a:pt x="0" y="32156"/>
                  </a:lnTo>
                  <a:arcTo wR="12" hR="12" stAng="10800000" swAng="-5400000"/>
                  <a:lnTo>
                    <a:pt x="21588" y="32168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5713920" y="2133720"/>
              <a:ext cx="2845440" cy="4209480"/>
              <a:chOff x="5713920" y="2133720"/>
              <a:chExt cx="2845440" cy="4209480"/>
            </a:xfrm>
          </p:grpSpPr>
          <p:sp>
            <p:nvSpPr>
              <p:cNvPr id="347" name=""/>
              <p:cNvSpPr/>
              <p:nvPr/>
            </p:nvSpPr>
            <p:spPr>
              <a:xfrm>
                <a:off x="5715000" y="2133720"/>
                <a:ext cx="2809800" cy="4184640"/>
              </a:xfrm>
              <a:custGeom>
                <a:avLst/>
                <a:gdLst>
                  <a:gd name="textAreaLeft" fmla="*/ 360 w 2809800"/>
                  <a:gd name="textAreaRight" fmla="*/ 2809440 w 2809800"/>
                  <a:gd name="textAreaTop" fmla="*/ 360 h 4184640"/>
                  <a:gd name="textAreaBottom" fmla="*/ 4184280 h 4184640"/>
                </a:gdLst>
                <a:ahLst/>
                <a:rect l="textAreaLeft" t="textAreaTop" r="textAreaRight" b="textAreaBottom"/>
                <a:pathLst>
                  <a:path w="21600" h="32168">
                    <a:moveTo>
                      <a:pt x="12" y="0"/>
                    </a:moveTo>
                    <a:arcTo wR="12" hR="12" stAng="16200000" swAng="-5400000"/>
                    <a:lnTo>
                      <a:pt x="0" y="32156"/>
                    </a:lnTo>
                    <a:arcTo wR="12" hR="12" stAng="10800000" swAng="-5400000"/>
                    <a:lnTo>
                      <a:pt x="21588" y="32168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92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aeg, koht, arvestus, praktik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16 loengu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75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960840" y="2362320"/>
            <a:ext cx="6998400" cy="3386160"/>
            <a:chOff x="960840" y="2362320"/>
            <a:chExt cx="6998400" cy="3386160"/>
          </a:xfrm>
        </p:grpSpPr>
        <p:sp>
          <p:nvSpPr>
            <p:cNvPr id="357" name=""/>
            <p:cNvSpPr/>
            <p:nvPr/>
          </p:nvSpPr>
          <p:spPr>
            <a:xfrm>
              <a:off x="990720" y="2362320"/>
              <a:ext cx="6929280" cy="337644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960840" y="2362320"/>
              <a:ext cx="6998400" cy="3386160"/>
              <a:chOff x="960840" y="2362320"/>
              <a:chExt cx="6998400" cy="3386160"/>
            </a:xfrm>
          </p:grpSpPr>
          <p:sp>
            <p:nvSpPr>
              <p:cNvPr id="359" name=""/>
              <p:cNvSpPr/>
              <p:nvPr/>
            </p:nvSpPr>
            <p:spPr>
              <a:xfrm>
                <a:off x="990720" y="2362320"/>
                <a:ext cx="6927840" cy="33750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960840" y="2362320"/>
                <a:ext cx="6998400" cy="3386160"/>
                <a:chOff x="960840" y="2362320"/>
                <a:chExt cx="6998400" cy="33861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990720" y="2362320"/>
                  <a:ext cx="6927840" cy="33750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60840" y="2362320"/>
                  <a:ext cx="699840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 vs diskre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374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adus: teha võimalikult keerulisi asju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mertsrakendused: kliendile meelepäraseid as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379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060720" y="251928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55840" y="2879640"/>
            <a:ext cx="5024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neriasjandus: teha kõike lihtsama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386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391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396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O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 osa materjale ilmub loengute eel või järel (reeglina samal päeval)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k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Alati on olemas loengu üldplaan ja põhipunktid, kuid palju seletavaid detaile on võrgus puud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www.lambda.ee/index/itv0010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80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ovitatavad igapäevaselt loetavad lin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dzone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 vaata kursuse saidilt juurde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85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i="1" lang="en-GB" sz="2400" spc="-1" strike="noStrike">
                <a:solidFill>
                  <a:srgbClr val="000099"/>
                </a:solidFill>
                <a:latin typeface="Bitstream Vera Sans"/>
              </a:rPr>
              <a:t>esialg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 www.lambda.ee/index/itv0010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90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299880"/>
            <a:ext cx="7765920" cy="308160"/>
            <a:chOff x="914400" y="299880"/>
            <a:chExt cx="7765920" cy="308160"/>
          </a:xfrm>
        </p:grpSpPr>
        <p:sp>
          <p:nvSpPr>
            <p:cNvPr id="95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8032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